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DCA-2C65-48DF-9048-8AD805D2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34A-45FF-42A4-92D2-DF6F3859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0F4-AD5B-4AC3-87F7-61D7CBC3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938-DABE-48F3-A33D-26574270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E3E6-7754-401F-A4F3-C9D2C177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F21F-BB90-418F-91CB-B0E6D6EF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0DD-C470-4E2A-8D6C-A219A7FD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E0B6-96F6-43D7-99A1-F37C460C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68B8-0B11-433E-8691-96C4D953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AB32-424D-45A2-8FF8-2D9E2D4A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E2E5-27F4-43FD-9865-7B8DD0C1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044-3066-42FD-8E4D-4A15278A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138E-9B79-493C-9EF5-9B724C9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C3B5-BE6A-4F20-9EE2-BAF077E0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4280-C886-47C2-BF64-86860A56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B4F2-555A-4FF3-9F0D-367A259B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21F1-AF80-43F2-BF01-91A9C53F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4C8-9BE8-424C-AEF9-29146236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B08-5D19-4392-B0DD-9D0F6D32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1C6-7BBE-4C1C-A94B-D2FD8BDE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EEE-318E-4C76-833C-A05D2466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2F5-0DDD-4387-B18C-F8FB105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035-4C5E-412C-96F0-2984EB2E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26D-3CB0-43E3-AFFE-5138914A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EA09-B324-406B-8B0E-1C5555B082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5C3A-5EA8-490B-9994-8E6F921EF7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botics are the study of robot tecnology, if you wants to enter a cutting edge field that paid well you could become a robotics techn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rected senten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botics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tudy of robot technology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wa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enter a cutting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ge field that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pay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ell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ou could become a robotics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technic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cus Freewri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/10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you rath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m in freezing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m in warm water where lots of sm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ren have been swimming. (You c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e what small children do in water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ocabulary-Exercise 1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omplete the sentences with the vocabulary word that best fits in the blank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______ was held in Nokomis cemet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chorman delivered the news in a very ______ man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______ when Smiley misbeh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jury must _____ on a man’s guilt or innoc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have _______ evidence to win your c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ocabulary-Exercise 2. Match the antonym to the word it goes with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break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igh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g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Conc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Mitig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Gal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Ra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Frag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5ffff"/>
                </a:solidFill>
                <a:latin typeface="Tahoma"/>
              </a:rPr>
              <a:t>The Open Boat-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Cont.-Read ch. 5-7 of the story, and answer the following question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would twist their bodies for a moment and groan and sleep the dead sleep once more, while the water in the boat gurgled about them as a craft rocked.”  How is the ocean portrayed in this quot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ll you spell me for a little while?” he said meekly. What is shown about the oiler by the use of the word meekl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ter he must have grown stupid at his work, for suddenly there was a growling of water, for suddenly there was a growling of water, and a crest came with a roar and a swash into the boat.” What is meant by thi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one thing that would make the correspondent feel less frightened in the presence of the shark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d on this quote, what is the theme of the story? “When it occurs to a man that nature does not regard him as important, and that she feels he would not maim the universe by disposing of him, he at first wishes to throw bricks a the temple, and he hates deeply the fact that there are no bricks and no temples. Any visible expression of nature would surely be pelleted with his je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does the correspondent change on page 463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0:15:19Z</dcterms:created>
  <dc:creator>Angie</dc:creator>
  <dc:description/>
  <dc:language>en-US</dc:language>
  <cp:lastModifiedBy>Angie</cp:lastModifiedBy>
  <dcterms:modified xsi:type="dcterms:W3CDTF">2009-01-14T03:57:49Z</dcterms:modified>
  <cp:revision>4</cp:revision>
  <dc:subject/>
  <dc:title>DOL</dc:title>
</cp:coreProperties>
</file>